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6"/>
          </p:nvPr>
        </p:nvSpPr>
        <p:spPr>
          <a:xfrm>
            <a:off x="388584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4A2854-9CBC-4590-88E9-ACA378B4A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9D05B8-6249-4781-A627-1A41B72C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8DE30D-E946-42DF-BA08-10934565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F325C-622E-4563-B831-E58D66D4C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1B8CD6-DCBF-43AC-AEA0-5C401DA59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915-7DEA-42FC-B868-C30E2C64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6BF-3EF1-40C0-9146-AA03CF5B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C2F-1635-4DC3-A80A-F267CBF0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6EB-1E7B-499C-AF06-2BDC673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972-5A45-4DA2-B8E7-A48FB6ED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231-0A97-4028-900B-F837058B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F1E-5145-40F7-9427-9594640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DDC-F826-4B74-A9A6-A72700DF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CCA-118A-459B-8CAB-998CE1A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899-8698-4E40-8023-151BEBBC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6E0-36BA-4BDB-B490-3A2AC1E7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3E4-91F9-4FBC-9097-472E214B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66024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3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solidFill>
            <a:srgbClr val="6d7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1440" y="94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Text Box 16"/>
          <p:cNvSpPr/>
          <p:nvPr/>
        </p:nvSpPr>
        <p:spPr>
          <a:xfrm>
            <a:off x="4133880" y="6235560"/>
            <a:ext cx="4781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1C1263-7E0C-4753-B4E0-7591C2E666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Feb 6, 2008 TPTF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D7AC-3707-49B1-85B2-8F95D82229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155600" y="6432480"/>
            <a:ext cx="20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solidFill>
            <a:srgbClr val="6d7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1440" y="94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791320" y="64450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urse Ti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3543480" y="6432480"/>
            <a:ext cx="2071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A869F3B-C0A3-4AA2-BE88-6256F3777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logo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51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3"/>
          <a:stretch/>
        </p:blipFill>
        <p:spPr>
          <a:xfrm>
            <a:off x="1952640" y="0"/>
            <a:ext cx="2120760" cy="990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9"/>
          <p:cNvSpPr/>
          <p:nvPr/>
        </p:nvSpPr>
        <p:spPr>
          <a:xfrm>
            <a:off x="4076640" y="0"/>
            <a:ext cx="506736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5362560" y="29520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809720" y="2028960"/>
            <a:ext cx="617220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Education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Course Tit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Presenter Name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Presenter Title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ly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22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ider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1" name="Picture 7" descr="logo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57360" y="2028960"/>
            <a:ext cx="79311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rket Engagement and Readiness (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T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6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2"/>
          <a:stretch/>
        </p:blipFill>
        <p:spPr>
          <a:xfrm>
            <a:off x="1952640" y="0"/>
            <a:ext cx="2120760" cy="990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4"/>
          <p:cNvSpPr/>
          <p:nvPr/>
        </p:nvSpPr>
        <p:spPr>
          <a:xfrm>
            <a:off x="4076640" y="0"/>
            <a:ext cx="506736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5362560" y="29520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3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368280" y="965160"/>
          <a:ext cx="5587920" cy="5091120"/>
        </p:xfrm>
        <a:graphic>
          <a:graphicData uri="http://schemas.openxmlformats.org/drawingml/2006/table">
            <a:tbl>
              <a:tblPr/>
              <a:tblGrid>
                <a:gridCol w="2387520"/>
                <a:gridCol w="889200"/>
                <a:gridCol w="1168200"/>
                <a:gridCol w="1143000"/>
              </a:tblGrid>
              <a:tr h="8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(day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 Deliveries To-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T Available On-l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 of L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to Nodal Marke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ies 2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Model Management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s 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E QSE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060880" y="1731960"/>
            <a:ext cx="352440" cy="298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708520" y="3016080"/>
            <a:ext cx="3435480" cy="311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6967440" y="1341360"/>
            <a:ext cx="1814760" cy="1501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060880" y="2570040"/>
            <a:ext cx="352440" cy="298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5035680" y="3078000"/>
            <a:ext cx="352440" cy="29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5048280" y="3903840"/>
            <a:ext cx="352440" cy="298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5048280" y="4424400"/>
            <a:ext cx="352440" cy="2984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266760" y="123840"/>
            <a:ext cx="864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Completed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3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266760" y="1289160"/>
          <a:ext cx="8647200" cy="3908160"/>
        </p:xfrm>
        <a:graphic>
          <a:graphicData uri="http://schemas.openxmlformats.org/drawingml/2006/table">
            <a:tbl>
              <a:tblPr/>
              <a:tblGrid>
                <a:gridCol w="3603600"/>
                <a:gridCol w="1227240"/>
                <a:gridCol w="1253880"/>
                <a:gridCol w="1308240"/>
                <a:gridCol w="1254240"/>
              </a:tblGrid>
              <a:tr h="64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ength, day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 (4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E QSE Operations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20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30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101 (2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101 for Wind Generation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formation System (TB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336920" y="1984320"/>
            <a:ext cx="225720" cy="297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511960" y="199692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743880" y="200988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299120" y="319104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324320" y="404172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4311720" y="443556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311720" y="236520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5486400" y="237816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6718320" y="239076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4299120" y="276552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2"/>
          <a:stretch/>
        </p:blipFill>
        <p:spPr>
          <a:xfrm>
            <a:off x="5473800" y="277812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3"/>
          <a:stretch/>
        </p:blipFill>
        <p:spPr>
          <a:xfrm>
            <a:off x="6705720" y="2790720"/>
            <a:ext cx="225360" cy="297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266760" y="166680"/>
            <a:ext cx="864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65160" y="898560"/>
            <a:ext cx="34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65160" y="4621320"/>
            <a:ext cx="347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266760" y="1009800"/>
            <a:ext cx="864720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455400" indent="-350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Information System – 3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6480" indent="-350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or-led introduction to the 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2560" indent="-350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, components, security, personalization, access options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6480" indent="-350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based tutorial on the MIS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2560" indent="-350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based training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6480" indent="-350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based tutorial on MIS use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2560" indent="-350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 Revenue Rights (Currently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2560" indent="-350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Managem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2560" indent="-350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6480" indent="-35028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user interface development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6480" indent="-35028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ssess development schedule for other MIS training components and report 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66760" y="166680"/>
            <a:ext cx="864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3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241200" y="1317600"/>
          <a:ext cx="8561520" cy="2957400"/>
        </p:xfrm>
        <a:graphic>
          <a:graphicData uri="http://schemas.openxmlformats.org/drawingml/2006/table">
            <a:tbl>
              <a:tblPr/>
              <a:tblGrid>
                <a:gridCol w="5202360"/>
                <a:gridCol w="831960"/>
                <a:gridCol w="2527200"/>
              </a:tblGrid>
              <a:tr h="69444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,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</a:tr>
              <a:tr h="95004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raining - System Dynam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month within the first 12 months of full Texas Nodal Market Operation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-Based Training for QSEs with Generation 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Quarter, 2009 only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-Based Training for Load Serving Ent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Quarter, 2009 only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-Based Training for TSPs and D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Quarter, 2009 only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30120" y="990720"/>
            <a:ext cx="2057400" cy="317520"/>
          </a:xfrm>
          <a:prstGeom prst="rect">
            <a:avLst/>
          </a:prstGeom>
          <a:solidFill>
            <a:srgbClr val="ccccb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266760" y="181080"/>
            <a:ext cx="8647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Upcoming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684360"/>
            <a:ext cx="9144000" cy="552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266760" y="1276200"/>
          <a:ext cx="8646840" cy="4591080"/>
        </p:xfrm>
        <a:graphic>
          <a:graphicData uri="http://schemas.openxmlformats.org/drawingml/2006/table">
            <a:tbl>
              <a:tblPr/>
              <a:tblGrid>
                <a:gridCol w="3390840"/>
                <a:gridCol w="1267920"/>
                <a:gridCol w="1268280"/>
                <a:gridCol w="1388160"/>
                <a:gridCol w="1331640"/>
              </a:tblGrid>
              <a:tr h="349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(length, day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 Deliveries To-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 /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bbcb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7/2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/7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9/2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 of LMP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to Nodal Markets (WB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/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/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/444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ies 201 (1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/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/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 (4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/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Model Management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/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/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/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/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s 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E QSE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/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1dce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/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337760" y="5932440"/>
            <a:ext cx="63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LT only / no ex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WBT 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5"/>
          <p:cNvSpPr/>
          <p:nvPr/>
        </p:nvSpPr>
        <p:spPr>
          <a:xfrm>
            <a:off x="266760" y="209520"/>
            <a:ext cx="864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livery –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65160" y="898560"/>
            <a:ext cx="34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5160" y="4621320"/>
            <a:ext cx="347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19049" t="23256" r="20549" b="8126"/>
          <a:stretch/>
        </p:blipFill>
        <p:spPr>
          <a:xfrm>
            <a:off x="493560" y="1035000"/>
            <a:ext cx="6944040" cy="46418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39" name="Picture 108" descr="j0355427[1]"/>
          <p:cNvPicPr/>
          <p:nvPr/>
        </p:nvPicPr>
        <p:blipFill>
          <a:blip r:embed="rId2"/>
          <a:stretch/>
        </p:blipFill>
        <p:spPr>
          <a:xfrm>
            <a:off x="7143840" y="765000"/>
            <a:ext cx="1814400" cy="1501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livery – Schedule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2360" y="5681520"/>
            <a:ext cx="85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latest nodal training schedule check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nodal.ercot.com/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65240" y="2828880"/>
            <a:ext cx="424836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2916360" y="2503440"/>
            <a:ext cx="2714400" cy="2036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4111560" y="22795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4800" y="193500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22"/>
          <p:cNvGrpSpPr/>
          <p:nvPr/>
        </p:nvGrpSpPr>
        <p:grpSpPr>
          <a:xfrm>
            <a:off x="2311560" y="4684680"/>
            <a:ext cx="4500360" cy="1176120"/>
            <a:chOff x="2311560" y="4684680"/>
            <a:chExt cx="4500360" cy="1176120"/>
          </a:xfrm>
        </p:grpSpPr>
        <p:grpSp>
          <p:nvGrpSpPr>
            <p:cNvPr id="248" name="Group 21"/>
            <p:cNvGrpSpPr/>
            <p:nvPr/>
          </p:nvGrpSpPr>
          <p:grpSpPr>
            <a:xfrm>
              <a:off x="2311560" y="4684680"/>
              <a:ext cx="4500360" cy="1176120"/>
              <a:chOff x="2311560" y="4684680"/>
              <a:chExt cx="4500360" cy="1176120"/>
            </a:xfrm>
          </p:grpSpPr>
          <p:pic>
            <p:nvPicPr>
              <p:cNvPr id="249" name="Picture 9" descr="Number-48-Texas-Map-Nodes"/>
              <p:cNvPicPr/>
              <p:nvPr/>
            </p:nvPicPr>
            <p:blipFill>
              <a:blip r:embed="rId2"/>
              <a:stretch/>
            </p:blipFill>
            <p:spPr>
              <a:xfrm>
                <a:off x="5738760" y="4719600"/>
                <a:ext cx="10731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0" descr="Number-34c-ERCOT-Congestion"/>
              <p:cNvPicPr/>
              <p:nvPr/>
            </p:nvPicPr>
            <p:blipFill>
              <a:blip r:embed="rId3"/>
              <a:stretch/>
            </p:blipFill>
            <p:spPr>
              <a:xfrm>
                <a:off x="2311560" y="4711680"/>
                <a:ext cx="1074600" cy="10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1" descr="MCj04131380000[1]"/>
              <p:cNvPicPr/>
              <p:nvPr/>
            </p:nvPicPr>
            <p:blipFill>
              <a:blip r:embed="rId4"/>
              <a:stretch/>
            </p:blipFill>
            <p:spPr>
              <a:xfrm>
                <a:off x="3805200" y="4684680"/>
                <a:ext cx="16779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Text Box 17"/>
              <p:cNvSpPr/>
              <p:nvPr/>
            </p:nvSpPr>
            <p:spPr>
              <a:xfrm>
                <a:off x="3573360" y="5456160"/>
                <a:ext cx="152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rket 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12"/>
            <p:cNvSpPr/>
            <p:nvPr/>
          </p:nvSpPr>
          <p:spPr>
            <a:xfrm>
              <a:off x="3019320" y="4724280"/>
              <a:ext cx="338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Nodal Market Tran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Nodal Training Group</dc:creator>
  <dc:description/>
  <dc:language>en-US</dc:language>
  <cp:lastModifiedBy>thailu</cp:lastModifiedBy>
  <dcterms:modified xsi:type="dcterms:W3CDTF">2008-02-04T21:05:28Z</dcterms:modified>
  <cp:revision>862</cp:revision>
  <dc:subject/>
  <dc:title>Nodal Training Template</dc:title>
</cp:coreProperties>
</file>